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7D98D-D219-4209-BCC7-8A04A9BAD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3230B-EE81-4CFA-9533-671785A2A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56794-1DFA-46D9-9A03-686F157E2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9F744-7B7A-4CB0-B709-1520A86FF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55EB8D-9B4B-4B7E-AF6A-8C503A701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8006E-7DC3-498D-ACFC-5CC6AA139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F2A0D-6BD1-41E8-9DD9-EF9D7E322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B1C9A-FCF0-4525-8BB7-AD881E142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0CF02-3B57-47FF-AA21-DAD95B2B2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12194-71DD-446D-92DD-A756D1DFD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A7159-9789-465D-B5BA-98822A1BD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2357C-88ED-4C90-851F-4968BECE9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CA6D5-5451-447F-BE80-D03167986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02BFF-E314-440F-9F63-AA4236617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8E1E6-75F3-40A5-863A-7F9757206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F53CE2-8F96-4407-9980-1B058F0F09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25962-1CC3-4A5C-8B90-6AA1F9009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0EEF4-60C9-41D7-9396-33103E76E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53C75-3B0D-4043-B11D-5CFEBC72D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FCFD9-DA44-4200-AEF2-84939D273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91611-ACAA-4033-A7FD-362393329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BA236-B7F3-4A3F-BA83-A54F6BFAC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69DD9-C1EB-4DAB-B82F-FFF7E760A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2D3BE-5675-44EC-A2D3-E0A9C9444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E73B-5600-4502-948C-4018D3FEAD36}"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CF27-0798-4AF3-B836-742F8BCA225E}"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a:t>
            </a:r>
            <a:r>
              <a:rPr b="1" lang="en-US" sz="4000" spc="-1" strike="noStrike">
                <a:solidFill>
                  <a:srgbClr val="ff9900"/>
                </a:solidFill>
                <a:latin typeface="Times New Roman"/>
              </a:rPr>
              <a:t>CUANDO LA NECESIDAD APRIETA”</a:t>
            </a:r>
            <a:endParaRPr b="0" lang="en-US" sz="4000" spc="-1" strike="noStrike">
              <a:solidFill>
                <a:srgbClr val="ffffcc"/>
              </a:solidFill>
              <a:latin typeface="Tahoma"/>
            </a:endParaRPr>
          </a:p>
        </p:txBody>
      </p:sp>
      <p:pic>
        <p:nvPicPr>
          <p:cNvPr id="89" name="" descr=""/>
          <p:cNvPicPr/>
          <p:nvPr/>
        </p:nvPicPr>
        <p:blipFill>
          <a:blip r:embed="rId1"/>
          <a:stretch/>
        </p:blipFill>
        <p:spPr>
          <a:xfrm>
            <a:off x="2556000" y="1773360"/>
            <a:ext cx="3965400" cy="44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691920"/>
            <a:ext cx="7772400" cy="86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DATOS PERSONALES</a:t>
            </a:r>
            <a:endParaRPr b="0" lang="en-US" sz="4000" spc="-1" strike="noStrike">
              <a:solidFill>
                <a:srgbClr val="ffffcc"/>
              </a:solidFill>
              <a:latin typeface="Tahoma"/>
            </a:endParaRPr>
          </a:p>
        </p:txBody>
      </p:sp>
      <p:sp>
        <p:nvSpPr>
          <p:cNvPr id="91" name="PlaceHolder 2"/>
          <p:cNvSpPr>
            <a:spLocks noGrp="1"/>
          </p:cNvSpPr>
          <p:nvPr>
            <p:ph type="subTitle"/>
          </p:nvPr>
        </p:nvSpPr>
        <p:spPr>
          <a:xfrm>
            <a:off x="971640" y="2060640"/>
            <a:ext cx="6913440" cy="345744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Times New Roman"/>
              </a:rPr>
              <a:t>Nombre:</a:t>
            </a:r>
            <a:r>
              <a:rPr b="0" lang="es-ES" sz="2800" spc="-1" strike="noStrike">
                <a:solidFill>
                  <a:srgbClr val="ffffff"/>
                </a:solidFill>
                <a:latin typeface="Times New Roman"/>
              </a:rPr>
              <a:t> Will</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Times New Roman"/>
              </a:rPr>
              <a:t>Apellidos:</a:t>
            </a:r>
            <a:r>
              <a:rPr b="0" lang="es-ES" sz="2800" spc="-1" strike="noStrike">
                <a:solidFill>
                  <a:srgbClr val="ffffff"/>
                </a:solidFill>
                <a:latin typeface="Times New Roman"/>
              </a:rPr>
              <a:t> Suppo Dicao</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Times New Roman"/>
              </a:rPr>
              <a:t>Fecha de Nacimiento:</a:t>
            </a:r>
            <a:r>
              <a:rPr b="0" lang="es-ES" sz="2800" spc="-1" strike="noStrike">
                <a:solidFill>
                  <a:srgbClr val="ffffff"/>
                </a:solidFill>
                <a:latin typeface="Times New Roman"/>
              </a:rPr>
              <a:t> 12 Mayo de 1986</a:t>
            </a:r>
            <a:r>
              <a:rPr b="0" lang="es-ES" sz="2800" spc="-1" strike="noStrike">
                <a:solidFill>
                  <a:srgbClr val="ffffff"/>
                </a:solidFill>
                <a:latin typeface="Times New Roman"/>
              </a:rPr>
              <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Times New Roman"/>
              </a:rPr>
              <a:t>Lugar de Nacimiento:</a:t>
            </a:r>
            <a:r>
              <a:rPr b="0" lang="es-ES" sz="2800" spc="-1" strike="noStrike">
                <a:solidFill>
                  <a:srgbClr val="ffffff"/>
                </a:solidFill>
                <a:latin typeface="Times New Roman"/>
              </a:rPr>
              <a:t> Río de Janeiro</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Times New Roman"/>
              </a:rPr>
              <a:t>Formación:</a:t>
            </a:r>
            <a:r>
              <a:rPr b="0" lang="es-ES" sz="2800" spc="-1" strike="noStrike">
                <a:solidFill>
                  <a:srgbClr val="ffffff"/>
                </a:solidFill>
                <a:latin typeface="Times New Roman"/>
              </a:rPr>
              <a:t> Profesor de samba</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Times New Roman"/>
              </a:rPr>
              <a:t>Profesión:</a:t>
            </a:r>
            <a:r>
              <a:rPr b="0" lang="es-ES" sz="2800" spc="-1" strike="noStrike">
                <a:solidFill>
                  <a:srgbClr val="ffffff"/>
                </a:solidFill>
                <a:latin typeface="Times New Roman"/>
              </a:rPr>
              <a:t> Barrendero</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Times New Roman"/>
              </a:rPr>
              <a:t>Lugar de procedencia:</a:t>
            </a:r>
            <a:r>
              <a:rPr b="0" lang="es-ES" sz="2800" spc="-1" strike="noStrike">
                <a:solidFill>
                  <a:srgbClr val="ffffff"/>
                </a:solidFill>
                <a:latin typeface="Times New Roman"/>
              </a:rPr>
              <a:t> Brasil, Las favela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Times New Roman"/>
              </a:rPr>
              <a:t>País al que emigró:</a:t>
            </a:r>
            <a:r>
              <a:rPr b="0" lang="es-ES" sz="2800" spc="-1" strike="noStrike">
                <a:solidFill>
                  <a:srgbClr val="ffffff"/>
                </a:solidFill>
                <a:latin typeface="Times New Roman"/>
              </a:rPr>
              <a:t> España</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Times New Roman"/>
              </a:rPr>
              <a:t>Estado civil:</a:t>
            </a:r>
            <a:r>
              <a:rPr b="0" lang="es-ES" sz="2800" spc="-1" strike="noStrike">
                <a:solidFill>
                  <a:srgbClr val="ffffff"/>
                </a:solidFill>
                <a:latin typeface="Times New Roman"/>
              </a:rPr>
              <a:t> Soltero</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680"/>
            <a:ext cx="7715160" cy="560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Qué causas te hicieron venir a hacia aquí?</a:t>
            </a:r>
            <a:br>
              <a:rPr sz="2400"/>
            </a:br>
            <a:r>
              <a:rPr b="0" i="1" lang="en-US" sz="2400" spc="-1" strike="noStrike">
                <a:solidFill>
                  <a:srgbClr val="ffffcc"/>
                </a:solidFill>
                <a:latin typeface="Times New Roman"/>
              </a:rPr>
              <a:t>Pues me encontré en Brasil con muchos problemas económicos y familiares, ya que la situación en Las Favelas era muy pobre. Mi madre murió tras una gran paliza de mi padre, que se encontraba bajo los efectos del alcohol, él tuvo que ser ingresado en un centro de desintoxicación. Tras esta situación mis hermanos  y yo quedamos huérfanos y sin un padre que nos trajera la comida a casa. Yo soy el hermano mayor y por este motivo tuve que emigrar a España para mantener a mi familia.</a:t>
            </a:r>
            <a:endParaRPr b="0"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692280"/>
            <a:ext cx="7848720" cy="496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imes New Roman"/>
              </a:rPr>
              <a:t>Tras esta situación, ¿cómo pudiste alimentar a tus hermanos?</a:t>
            </a:r>
            <a:br>
              <a:rPr sz="2400"/>
            </a:br>
            <a:r>
              <a:rPr b="0" i="1" lang="es-ES" sz="2400" spc="-1" strike="noStrike">
                <a:solidFill>
                  <a:srgbClr val="ffffcc"/>
                </a:solidFill>
                <a:latin typeface="Times New Roman"/>
              </a:rPr>
              <a:t>Por lo contado anteriormente, mi trabajo en la pequeña escuela de samba “Mocidade Unida de Santa Marta“, no era suficiente para mantener a mis hermanos ya que el sueldo era menos que en mi trabajo actual, y eso que solo soy un barrendero aquí en España.</a:t>
            </a:r>
            <a:br>
              <a:rPr sz="2400"/>
            </a:br>
            <a:endParaRPr b="0"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1125360"/>
            <a:ext cx="8209080" cy="4105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Cuáles fueron tus dificultades para integrarte en este país?</a:t>
            </a:r>
            <a:br>
              <a:rPr sz="2400"/>
            </a:br>
            <a:r>
              <a:rPr b="0" i="1" lang="en-US" sz="2400" spc="-1" strike="noStrike">
                <a:solidFill>
                  <a:srgbClr val="ffffcc"/>
                </a:solidFill>
                <a:latin typeface="Times New Roman"/>
              </a:rPr>
              <a:t>Mi primer destino en España fue Barcelona, allí mi principal problema fue la mezcla de dos idiomas. Como mi formación en la escuela fue muy escasa no pude aprender español, por este motivo se me hizo muy difícil en tan poco tiempo aprender catalán y castellano. Esto unido a que no me integraba en aquella sociedad, ya que eran muy racistas y por mis apariencias no me contrataban en ningún oficio. Lo único bueno que saque de Barcelona fuero unos grandes amigos.</a:t>
            </a:r>
            <a:br>
              <a:rPr sz="2400"/>
            </a:br>
            <a:r>
              <a:rPr b="0" i="1" lang="en-US" sz="2400" spc="-1" strike="noStrike">
                <a:solidFill>
                  <a:srgbClr val="ffffcc"/>
                </a:solidFill>
                <a:latin typeface="Times New Roman"/>
              </a:rPr>
              <a:t>Ellos fueron los que me recomendaron que viniese a Osuna, ya que al tener familiares aquí sabían que podría encontrar un trabajo, aunque fuera de menor categoría, con mayor facilidad</a:t>
            </a:r>
            <a:r>
              <a:rPr b="0" lang="en-US" sz="2400" spc="-1" strike="noStrike">
                <a:solidFill>
                  <a:srgbClr val="ffffcc"/>
                </a:solidFill>
                <a:latin typeface="Times New Roman"/>
              </a:rPr>
              <a:t>.</a:t>
            </a:r>
            <a:endParaRPr b="0"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2649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r>
              <a:rPr b="1" lang="es-ES" sz="2400" spc="-1" strike="noStrike">
                <a:solidFill>
                  <a:srgbClr val="ff9900"/>
                </a:solidFill>
                <a:latin typeface="Times New Roman"/>
              </a:rPr>
              <a:t>¿Qué es lo que más hechas  de menos de tu país?</a:t>
            </a:r>
            <a:br>
              <a:rPr sz="2400"/>
            </a:br>
            <a:r>
              <a:rPr b="0" i="1" lang="es-ES" sz="2400" spc="-1" strike="noStrike">
                <a:solidFill>
                  <a:srgbClr val="ffffcc"/>
                </a:solidFill>
                <a:latin typeface="Times New Roman"/>
              </a:rPr>
              <a:t>Pues evidentemente a mis hermanos, y a las personas que me apoyaban en mi profesión de profesor de samba, ya que mis padres no le veían futuro, pero a mí me apasiona la música y el baile brasileño. Por esto, aunque no me puede dedicar íntegramente en ello, suelo dar clases de samba y hip-hop que aprendí en Barcelona, en mis ratos libres.</a:t>
            </a:r>
            <a:endParaRPr b="0"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4522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2400" spc="-1" strike="noStrike">
                <a:solidFill>
                  <a:srgbClr val="ff9900"/>
                </a:solidFill>
                <a:latin typeface="Times New Roman"/>
              </a:rPr>
              <a:t>¿Qué opinas de la inmigración y emigración?</a:t>
            </a:r>
            <a:br>
              <a:rPr sz="2400"/>
            </a:br>
            <a:r>
              <a:rPr b="0" i="1" lang="en-US" sz="2400" spc="-1" strike="noStrike">
                <a:solidFill>
                  <a:srgbClr val="ffffcc"/>
                </a:solidFill>
                <a:latin typeface="Times New Roman"/>
              </a:rPr>
              <a:t>Por una parte es muy bueno tener un país opcional para mejorar mi nivel de vida, pero creo que por otro lado el gobierno de mi país tendría que tomar medidas para que ninguno de sus ciudadanos  tuviera que abandonar sus familiares y su hogar para no tener que pasar hambre.</a:t>
            </a:r>
            <a:br>
              <a:rPr sz="2400"/>
            </a:br>
            <a:r>
              <a:rPr b="0" i="1" lang="en-US" sz="2400" spc="-1" strike="noStrike">
                <a:solidFill>
                  <a:srgbClr val="ffffcc"/>
                </a:solidFill>
                <a:latin typeface="Times New Roman"/>
              </a:rPr>
              <a:t>Ya que en Brasil son millones de personas que en Las Favelas pasan muchas necesidades, mientras que  en la gran parte de Brasil viven medianamente bien, pues Río de Janeiro es lugar muy atractivo para los turistas europeos que son los  que invierten más dinero allí.</a:t>
            </a:r>
            <a:endParaRPr b="0"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2T14:18:43Z</dcterms:created>
  <dc:creator>Lorena</dc:creator>
  <dc:description/>
  <dc:language>en-US</dc:language>
  <cp:lastModifiedBy>Lorena</cp:lastModifiedBy>
  <dcterms:modified xsi:type="dcterms:W3CDTF">2012-05-02T15:52:56Z</dcterms:modified>
  <cp:revision>2</cp:revision>
  <dc:subject/>
  <dc:title>Diapositiva 1</dc:title>
</cp:coreProperties>
</file>